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99F3-A1B9-470E-9A11-30B072B7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45B-0CD8-4B66-8ABD-B2CE1017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000-3ABD-4731-A7B2-54A52B65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9A0-6151-405D-B819-3DF8AECC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745-9345-44B4-8B5D-CE73C192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D2E-7C6F-4A86-B7C0-3E4DC9DC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A31-FBD8-4B01-B32F-0726E99A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39D2-B7C7-45B6-B6E3-1F6A4A67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E99E-F579-48EC-A46D-1FE54BD1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668-B07B-478E-A2F0-4D4AE5BF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3AC-99A2-4876-A705-398817A3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F6C-AF53-4900-9AE1-C920E3CA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4C70-F822-4387-97A6-2A363B0B3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0560" y="1117080"/>
            <a:ext cx="8447040" cy="12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ritique of a TV Commer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51160" y="27432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90880" y="6095880"/>
            <a:ext cx="5164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: Erin, Brandee and Conni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1: Define the produ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watched a commercial for _________.  The company is ______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0160" y="27432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2: Describe the com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happened in the commercia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rst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n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fter that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ally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e end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30211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3: Analyze the com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time of day did you see the commercial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show were you watching when you saw the commercia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were the important things in the commercial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did you remember most about the commercial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o do you think the commercial was made fo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59120" y="4368960"/>
            <a:ext cx="280836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310680"/>
            <a:ext cx="967284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4: How does the commercial try to persuade the audien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mmercial uses __________ to try to persuade the audience.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: musi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nguage (the best, the most afford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elebrities, et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xt (large, colorful fon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ts (doctors say..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84880" y="4673520"/>
            <a:ext cx="35910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310680"/>
            <a:ext cx="967284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5: Do you think the commercial is realistic or honest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9679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my opinion, the commercial is/is not _______________ because ____________________________________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41680" y="3251160"/>
            <a:ext cx="4825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2000" y="310680"/>
            <a:ext cx="967284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ep 6: Do you like the commercial?  Why or why not?  Would you buy the product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5840" y="1969560"/>
            <a:ext cx="950760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like this commercial because ___________________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don't like this commercial becaus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_________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would/would not buy this product becaus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___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007400" y="5380200"/>
            <a:ext cx="2147760" cy="231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010280" y="3149640"/>
            <a:ext cx="18306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